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uan Carlos Lucero Larenas" initials="JCL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<Relationship Id="rId15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4-08-22T21:51:24.459000000" idx="1">
    <p:pos x="10" y="10"/>
    <p:text>ejemplo de profesión del mejor consultor de software del Silicon Valley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6924-CD5D-4AFC-BC26-9CCDC44798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mplo de la profesión del mejor consultor tecnológico del silicon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0CF-E768-4EA9-A662-6CC44DB0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C06D-67E1-4208-949C-0640B9AA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5E7-2B95-4D29-B36B-DE0A99D7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71D-298C-4B44-AEAD-E4BCA358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CD2DE-3AFF-4074-8386-05B9C535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D199F-45F8-4AA2-BDE2-63B2CDB8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99570-96F2-4A49-B743-31953E65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A24DF-0A6C-4262-A4FE-DEBB5ECC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B3BFC-BB4A-4825-985C-7CA852BE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0F17F-B89F-45FF-A5FA-9AA7DF2A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94B22-1F45-4DD5-957E-E00484F6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461-DE81-46F7-A89D-AF1C1B07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23D33-E741-4299-AD9D-CA29F1E3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67F8C-E319-4FD3-8297-54C260A8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DDEF3-57A9-4EC0-8848-9A4E4162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D9910-DDFA-4B77-9896-EAB6CB28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B25C4-5CED-4017-8897-0084A166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B40-A817-459B-A814-FD9F828F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74F-82DA-4C4F-B528-367EAFAE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5E3-AAEC-4130-A5E0-1BE2F094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1C97-9A13-43CF-8D7C-66EE28B6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3BD-11FA-4DE0-A576-0AC04917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8510-4410-4C2A-ADB4-2BEA2E3A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78D-2D01-4936-BF2A-9EDFCB24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7EEA-E5BD-4D08-9D35-87915439CF1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EE5B-90CD-44AA-A180-64F560D7990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e Nro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entes de po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uentes de Po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 la fuer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l car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roduc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l di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conoc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ident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articulac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 la fuerz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ecuencias en la integridad física o daños mater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n general se emplea en situaciones donde las otras fuentes de poder se agotaron o perdieron credibil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 ética que la sustenta dice relación con proteger integridad física o sobre viv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y culturas donde se valida, llegando incluso a influir en otros domin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l Carg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secuencias en dominios organizacionales. Contrataciones, despidos, ascensos, incentivos, pedidos, decis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a asociado a la responsabilidad que tiene el que lo ost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 un instrumento del diseño organizacional, a veces asociado a las competencias de los individu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unque a veces hay espacios de ambigüedad, tiene límites y atribu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s culturas organizacionales van construyendo espacios éticos que se aplica en diversos estilos y con distintos grados de legitim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roductiv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cuencias en el desempeño en un  mercado. Produce bienes valorados en un mercado por clientes. Es el poder de la ofer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 grado de poder depende del grado de valor que genera a otros con capacidad de adquirirlo y de las alternativas que le compi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que lo sustenta es la del mercado y su validación so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poderes de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derechos del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l Dine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consecuencias en la capacidad de acceder a bienes y servicios. Poder de la dema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ambién lo sustenta la ética del mercado y de los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enera consecuencias más allá del ámbito del mercado, lo que plantea dilemas éticos. Por ejemp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emocracia y distribución del ingr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Igualdad de oportunidad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mple la función de intermediar las relaciones de oferta y dema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or Conocimien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consecuencias en generar posibilidades a otros desde lo quiebres que tien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iste en articular discursos y habilidades que permiten actuar con mayor efe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que la sustenta dice relación con el suministro de servicios profesionales, incluso se habla de ética profes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fesionales que desarrollan oferta diferenciadora. Consultores en tecnología, gestión, finanzas , economía, abogados, médicos, arquitecto, et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oder por Identidad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cuencias en la oferta o capacidad declarativa de personas o ent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que ver con el compromiso con lo que quiero “ser” y con como me “ ven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tiene que ver con la integridad entre la imagen y el compromi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 liderazgo requiere este tipo de po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 los tiempos del desarrollo de las tecnologías de información y comunicación, este poder es vit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or Articulació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ene consecuencias en facilitar coordinaciones entre personas sin relaciones  de confianza. Ejm A, B y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 clave el desarrollo de relaciones de confianza y la capacidad escuchar los intereses, quiebres y preocupaciones y las formas de ver de los articul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ética está dada por el compromiso con ambos , podría haber conflicto por no ser “bisagr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velocidad de los cambios , hace de este tipo de poder un factor central en los negocios de h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22:31:44Z</dcterms:created>
  <dc:creator>Juan Carlos Lucero Larenas</dc:creator>
  <dc:description/>
  <dc:language>en-US</dc:language>
  <cp:lastModifiedBy>xxx</cp:lastModifiedBy>
  <dcterms:modified xsi:type="dcterms:W3CDTF">2005-08-30T16:54:49Z</dcterms:modified>
  <cp:revision>11</cp:revision>
  <dc:subject/>
  <dc:title>PODER ÉTICA Y GESTIÓN</dc:title>
</cp:coreProperties>
</file>